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3E51-F050-4A62-A6CC-C1AEA9BC8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5E24-9537-4E30-85C7-FC0CDA4F5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76D5-7630-457F-948A-4CE386E93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DD82-41B8-4114-8A96-D624F53AC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56A6-F812-4F4C-AD3A-ACB631509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AA04-6AA0-4E2A-B1EF-CFBBD4920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EDB3-A98D-4819-A65C-2C5BE7D1C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7177-F9C6-4C1D-A41B-E0283D9B3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78C8-0E9A-4253-8585-45411402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DCC8-8566-4C05-8514-DBC4DE1E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22F5-6A7E-4D97-9928-60B2856E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4BC7-7C8A-4626-A92B-6A1628A1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68157-5449-48D0-BB42-2B492C1FE1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87812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6000" spc="-1" strike="noStrike">
                <a:solidFill>
                  <a:srgbClr val="000000"/>
                </a:solidFill>
                <a:latin typeface="Calibri Light"/>
              </a:rPr>
              <a:t>Кинезитерапија цервикалног синдрома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52020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роф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.др Катарина Парезановић Или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5415120" y="182520"/>
            <a:ext cx="1361880" cy="169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838080" y="622080"/>
            <a:ext cx="10515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7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sr-CS" sz="3700" spc="-1" strike="noStrike">
                <a:solidFill>
                  <a:srgbClr val="000000"/>
                </a:solidFill>
                <a:latin typeface="Calibri"/>
              </a:rPr>
              <a:t>Трајање бола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700" spc="-1" strike="noStrike">
                <a:solidFill>
                  <a:srgbClr val="ff0000"/>
                </a:solidFill>
                <a:latin typeface="Calibri"/>
              </a:rPr>
              <a:t>акутни</a:t>
            </a:r>
            <a:r>
              <a:rPr b="0" lang="sr-CS" sz="3700" spc="-1" strike="noStrike">
                <a:solidFill>
                  <a:srgbClr val="000000"/>
                </a:solidFill>
                <a:latin typeface="Calibri"/>
              </a:rPr>
              <a:t> до 4 недеље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700" spc="-1" strike="noStrike">
                <a:solidFill>
                  <a:srgbClr val="ff0000"/>
                </a:solidFill>
                <a:latin typeface="Calibri"/>
              </a:rPr>
              <a:t>субакутни</a:t>
            </a:r>
            <a:r>
              <a:rPr b="0" lang="sr-CS" sz="3700" spc="-1" strike="noStrike">
                <a:solidFill>
                  <a:srgbClr val="000000"/>
                </a:solidFill>
                <a:latin typeface="Calibri"/>
              </a:rPr>
              <a:t> 4-12 недеља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700" spc="-1" strike="noStrike">
                <a:solidFill>
                  <a:srgbClr val="ff0000"/>
                </a:solidFill>
                <a:latin typeface="Calibri"/>
              </a:rPr>
              <a:t>хронични </a:t>
            </a:r>
            <a:r>
              <a:rPr b="0" lang="sr-CS" sz="3700" spc="-1" strike="noStrike">
                <a:solidFill>
                  <a:srgbClr val="000000"/>
                </a:solidFill>
                <a:latin typeface="Calibri"/>
              </a:rPr>
              <a:t>преко 12 недеља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700" spc="-1" strike="noStrike">
                <a:solidFill>
                  <a:srgbClr val="000000"/>
                </a:solidFill>
                <a:latin typeface="Calibri"/>
              </a:rPr>
              <a:t>Акутни бол: указује на оштећење-дијагностички значај. Кратко траје,лако се у 50% лечи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700" spc="-1" strike="noStrike">
                <a:solidFill>
                  <a:srgbClr val="000000"/>
                </a:solidFill>
                <a:latin typeface="Calibri"/>
              </a:rPr>
              <a:t>Хронични бол: не указује на оштећење, проузрокује промену активности и квалитета живота. Дуго траје, тешко се лечи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 Light"/>
              </a:rPr>
              <a:t>Анамнеза и преглед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сту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алпаторни нала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кретљиво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естови вертебралне артер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ензиони тест брахијалног плексу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мпресивни тестови-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pour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урални знац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иотомска и дерматомска дистрибу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ефлекс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стало: преглед рамена, пазушне јаме, торак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треба за додатним испитивањем-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red fl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 Light"/>
              </a:rPr>
              <a:t>Миотоми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C5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:deltoideus,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biceps,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спитивање абдукције рамена, и флексија лакта са супинираном подлактицом, кључни мишићи по стандардној неуролошкој класификацији,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флексори подлактице,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m. biceps, m.brachioradial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C6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: biceps, brachialis, brachioradialis i ekstenzor carpi radialis longus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спитивање флексија у супинацији, пронацији и мед. Позицији, затим екстензија шаке са радијалном девијацијом, кључни мишићи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екстензори ручја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m. ext. carpi radialis longus et brev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878040" y="1825560"/>
            <a:ext cx="4413240" cy="4351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>
            <a:off x="5486400" y="1946160"/>
            <a:ext cx="402264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 Light"/>
              </a:rPr>
              <a:t>Миотоми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C7: triceps,fleksor carpi radialis, fleksor digitorum radialis i extenzori šake.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спитивање кроз екстензију лакта и флексију шаке, кључни мишићи екстензори подлактице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m.triceps brachi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C8: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бдуктори палца кратки и дуги, екстензор палца кратки и дуги,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fleksor carpi ulnaris i fleksori prstiju,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спитивање кроз екстензију и абдукцију палца, флексија прстију и улнарна девијација шаке, кључни мишић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флексија дисталне фаланге средњег прс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1: испитивање кроз абдукцију и адукцију прстију, кључни мишић,  абдукција малог прста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m.abd.dig.minim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2036880" y="1146240"/>
            <a:ext cx="7485120" cy="503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2475000" y="1060560"/>
            <a:ext cx="6361200" cy="511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2779560" y="1023840"/>
            <a:ext cx="5432400" cy="51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2416320" y="755640"/>
            <a:ext cx="7359480" cy="542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Content Placeholder 3" descr=""/>
          <p:cNvPicPr/>
          <p:nvPr/>
        </p:nvPicPr>
        <p:blipFill>
          <a:blip r:embed="rId1"/>
          <a:stretch/>
        </p:blipFill>
        <p:spPr>
          <a:xfrm>
            <a:off x="838080" y="561960"/>
            <a:ext cx="10515600" cy="558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 Light"/>
              </a:rPr>
              <a:t>Дефинициј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Цервикални синдром је скуп симптома који се испољавају болом у вратној регији и радијацијом бола у рамена и руке, прекордијалну регију, потиља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о подру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је (потиља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а главобоља), лопатиц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 Light"/>
              </a:rPr>
              <a:t>Лезија </a:t>
            </a:r>
            <a:r>
              <a:rPr b="0" lang="sr-Latn-CS" sz="4400" spc="-1" strike="noStrike">
                <a:solidFill>
                  <a:srgbClr val="000000"/>
                </a:solidFill>
                <a:latin typeface="Calibri Light"/>
              </a:rPr>
              <a:t>n.ulnarisa </a:t>
            </a:r>
            <a:r>
              <a:rPr b="0" lang="sr-CS" sz="4400" spc="-1" strike="noStrike">
                <a:solidFill>
                  <a:srgbClr val="000000"/>
                </a:solidFill>
                <a:latin typeface="Calibri Light"/>
              </a:rPr>
              <a:t>и </a:t>
            </a:r>
            <a:r>
              <a:rPr b="0" lang="sr-Latn-CS" sz="4400" spc="-1" strike="noStrike">
                <a:solidFill>
                  <a:srgbClr val="000000"/>
                </a:solidFill>
                <a:latin typeface="Calibri Light"/>
              </a:rPr>
              <a:t>n.medianusa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5" name="Content Placeholder 3" descr=""/>
          <p:cNvPicPr/>
          <p:nvPr/>
        </p:nvPicPr>
        <p:blipFill>
          <a:blip r:embed="rId1"/>
          <a:stretch/>
        </p:blipFill>
        <p:spPr>
          <a:xfrm>
            <a:off x="901800" y="1670040"/>
            <a:ext cx="4120920" cy="4707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"/>
          <p:cNvPicPr/>
          <p:nvPr/>
        </p:nvPicPr>
        <p:blipFill>
          <a:blip r:embed="rId2"/>
          <a:stretch/>
        </p:blipFill>
        <p:spPr>
          <a:xfrm>
            <a:off x="5437080" y="1731960"/>
            <a:ext cx="4572000" cy="47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 Light"/>
              </a:rPr>
              <a:t>Дерматоми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C5: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атерална страна надлак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C6: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латерална страна подлакта, палца и кажипрс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C7: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средњи прс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C8: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медијална страна подлакта, 4 и 5 ти прс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Th1: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медијална страна надлак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Th2: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акси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 Light"/>
              </a:rPr>
              <a:t>Клинички облици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еирадирајући- локал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радирајућ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Цервикални дискогени синдром са радикулопатиј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Цервикални фасет синдром са иритацијом радик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себн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Wiplash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индром вра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y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ертебробазиларне инсуфицијенц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индром спиналне стено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пондилолисте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едуларни вратни синдр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 Light"/>
              </a:rPr>
              <a:t>Клиничка слик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ред тегоба које поти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у од компримованих нервних стабала код овог синдрома се веома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есто ср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е и симптоматологија лезије симпатикуса. Симпат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и део је у овој регији састављен из след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х структур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Ganglion cervikale superiu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Ganglion cervikale mediu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Ganglion stellat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 Light"/>
              </a:rPr>
              <a:t>Клиничка слик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Ганглион цервикале медиум + први торакални ганглион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не ганглион стеллатум. Из овог ганглиона иду влакна која обавијају вертебралну артерију и многи аутори га називају - задњи вратни симпатикус или вертебрални плексус. Иритација овог вазомоторног дела симпатицког система даје слику Барре - Лие-овог синдрома (синдром задњег симпатикуса). Симптоми су: вертиго, парестезија лица, фарингеалне сметње, наузеа, главобоља, тинитус, црвенило лица и др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 Light"/>
              </a:rPr>
              <a:t>Дијагностик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линички неуролошки прегле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EM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Dopller dijagnosti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RT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CT dijagnostik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M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 Light"/>
              </a:rPr>
              <a:t>Терапија</a:t>
            </a:r>
            <a:br>
              <a:rPr sz="3600"/>
            </a:br>
            <a:r>
              <a:rPr b="0" lang="sr-CS" sz="3600" spc="-1" strike="noStrike">
                <a:solidFill>
                  <a:srgbClr val="000000"/>
                </a:solidFill>
                <a:latin typeface="Calibri Light"/>
              </a:rPr>
              <a:t>Цервикални дискогени синдром без радикулопатије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Медикаментозна терапија: антиинфламаторна, спазмолитична 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аналгетска терапиј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озиционирање, меки оковратник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Едукација пацијент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КТХ поступак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остурална реедукациј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Активне сегментне и пасивне вежбе у безболном обим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Без покрета флексије и протракције рамен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Изиметријске за вра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Вежбе стабилизације трупа и вежбе обима покрета и снаге за Г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 Light"/>
              </a:rPr>
              <a:t>Цервикални фасет синдром без иритације корен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ол око кичменог стуба често обостра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ерапиј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Ласер, импулсни  У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ТХ и радна терап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стурална реедука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ктивне сегментне и пасивне веб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зометријске за вра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ануелна тракција из безболног положа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ежбе стабилизације труп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ежбе обима покрета и снаге за Г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рајно избегавање екстензије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 Light"/>
              </a:rPr>
              <a:t>Локални цервикални синдром типа цервикалне спондилозе </a:t>
            </a:r>
            <a:r>
              <a:rPr b="0" lang="sr-Latn-CS" sz="4400" spc="-1" strike="noStrike">
                <a:solidFill>
                  <a:srgbClr val="000000"/>
                </a:solidFill>
                <a:latin typeface="Calibri Light"/>
              </a:rPr>
              <a:t>( cephalea cerv.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олови у потиљку и раменом појасу. Увек присутна главобољ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ТХ поступак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стурална реедукац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ктивне сегментне вежб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утоистезањ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зометријске вежб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Вежбе стабилизације труп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Вежбе обима и снаге за Г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 Light"/>
              </a:rPr>
              <a:t>Пренапрезање трапезиус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ерапиј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рагна 4 дана и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roll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за рам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  3 до 4 дана пацијенти могу да раде све активне вежб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утоистезање, при крају амплитуде притисак у правцу покрета 10 и 15 се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тпомогнуто истезање и флексија, бочна флексија и екстенз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стурална реедукац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 Light"/>
              </a:rPr>
              <a:t>Дефинициј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а физиол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ог аспекта овај синдром представља скуп симптома везаних за иритацију или компресију нервних коренова у интервертебралним отворима или компресије васкуларних елемената симпатикуса. У 90% појаве овог синдрома у основи су дегенеративне промене вратне рег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 Light"/>
              </a:rPr>
              <a:t>Цервикални постурални синдром</a:t>
            </a:r>
            <a:br>
              <a:rPr sz="4400"/>
            </a:br>
            <a:r>
              <a:rPr b="0" lang="sr-CS" sz="4400" spc="-1" strike="noStrike">
                <a:solidFill>
                  <a:srgbClr val="000000"/>
                </a:solidFill>
                <a:latin typeface="Calibri Light"/>
              </a:rPr>
              <a:t>пренапрегнутост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Чворићи око медијалне ивице скапул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отрузија глав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ерапиј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рекција постур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аме ретракција и елевација, ретракција врата, екстензија торакалне региј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15-20 понављања током да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 Light"/>
              </a:rPr>
              <a:t>Терапија</a:t>
            </a:r>
            <a:br>
              <a:rPr sz="3600"/>
            </a:br>
            <a:r>
              <a:rPr b="0" lang="sr-CS" sz="3600" spc="-1" strike="noStrike">
                <a:solidFill>
                  <a:srgbClr val="000000"/>
                </a:solidFill>
                <a:latin typeface="Calibri Light"/>
              </a:rPr>
              <a:t>Цервикална дископатија са радикулопатијом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Бол у пределу радикса са компресијом или иритацијом једног или више нерава, једне или обе стране без знакова мијелопатиј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Терапија: 6 недеља до три месец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Медикаментозна терапија: декомпресивна и антиинфламаторна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миорелаксант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Физикалне процедуре: аналгетске и антиинфламаторне одмах: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DDS,TENS,Laser,IFS, superficijalna toplo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КТХ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озиционирање у безболном положај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Средња висина јастука, током ноћи са убаченим 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rollo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Едукација пацијента, заштитним положајим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1040" y="31608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 Light"/>
              </a:rPr>
              <a:t>Терапија</a:t>
            </a:r>
            <a:br>
              <a:rPr sz="3600"/>
            </a:br>
            <a:r>
              <a:rPr b="0" lang="sr-CS" sz="3600" spc="-1" strike="noStrike">
                <a:solidFill>
                  <a:srgbClr val="000000"/>
                </a:solidFill>
                <a:latin typeface="Calibri Light"/>
              </a:rPr>
              <a:t>Цервикална дископатија са радикулопатијом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 лежећем положају започети активне вежбе у безболном обиму, редослед: ротације и бочне флексије ка здравој страни, потом ка болесној, потом екстензија и флексиј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Када се смање болови у руци индикована је тракција, мануелна тракција у лежећем положају са благом флексијом у врату, потом апаратурна 2-3 пута дневно по 10-15 минута. Ако се појача бол, прекида с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рогрсија вежби у седећем положају, све време уз корекцију постуре (елевација и ретракција рамена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Када се постигне нормалан обим, вежбе истезања и изометријске за врат, вежбе са отпором за рамени појас и екстремитете уз корекцију постур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 Light"/>
              </a:rPr>
              <a:t>Едукациј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Савети при активностим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 почетку избегавати рад са флексијом главе дуже од неколико минут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Терте носити распоређен у обе руке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Косу прати стојећи испод туша са обе рук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Наслон фотеља и столица под углом од 90 ст, при одмору са благом ретракцијом рамен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Висина екрана у висини очиј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Избегавати дуже од 2-3 минута рад са рукама изнад хоризонтале до годину дана, након симптома праћених радикулопатским манифестацијам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 Light"/>
              </a:rPr>
              <a:t>Анатомиј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Тела испод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2 су напред н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а, а назад в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а. На горњој страни су б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и наставци -процессус унцинатус. Унковертебрални зглоб-Лушка настаје узглобљавањем овог наставка са телом пршљена. Два суседна пршљена су м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ђ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обно везана са пет зглобова: два задња апофизарна, два б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а унковертебрална и дискусном творевином. Б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и делови процесус унцинатус су механ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а заштита за нервне коренове од пролапса diskus intervertebrali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 Light"/>
              </a:rPr>
              <a:t>Анатомиј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Артерија вертебралис, која пролази кроз отворе на процесусима трансверсусима, у присном је контакту са костима и обавијена је густим омотацем симпатикусних влакана,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то при иритацији условљава њену инсуфицијенцију и појаву вертебробасиларне инсуфицијенције (Barre-Lie-ov sindrom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 Light"/>
              </a:rPr>
              <a:t>Патологиј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Акутна 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т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ења дискалне структуре настају само у сл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ају ј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е трауматизације, где се посебно ист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е трзајна повреда врата (саобр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ајни удеси) и директно вертикално савијање (скок са платформе на главу у плитку воду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 Light"/>
              </a:rPr>
              <a:t>Патологиј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Хрони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е промене не захватају само дискус интервертебралис в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и остале структуре, апофизарне зглобове као и интервертебралне зглобове, мека ткива, лигаментарно миш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е структуре. Свака промена која смањује промер интервертебралног отвора компромитује функцију одр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еног корена и манифестује се радикуларном симптоматологијом. Нај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еш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е промене су појава остеофита на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5,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6,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7. Предњи остеофити могу притиснути на есо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агус, па се могу јавити дисфаги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е сметњ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 Light"/>
              </a:rPr>
              <a:t>Патологиј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Микросублуксације - кулминација - радикуларна симптоматологија - цервикобрахиалгија.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De Palma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аводи да није 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ена изолована дегенерација једног дискуса в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удр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ене промене на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-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,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. Аутопсијом је на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ено да се ове промене развијају углавном у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IV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декади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во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 Light"/>
              </a:rPr>
              <a:t>Класификација бола у врату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9" name="Content Placeholder 3" descr=""/>
          <p:cNvPicPr/>
          <p:nvPr/>
        </p:nvPicPr>
        <p:blipFill>
          <a:blip r:embed="rId1"/>
          <a:stretch/>
        </p:blipFill>
        <p:spPr>
          <a:xfrm>
            <a:off x="792000" y="1822320"/>
            <a:ext cx="10564920" cy="4353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08T22:00:10Z</dcterms:created>
  <dc:creator>katarinaparezanovicilic@gmail.com</dc:creator>
  <dc:description/>
  <dc:language>en-US</dc:language>
  <cp:lastModifiedBy>Kaca</cp:lastModifiedBy>
  <dcterms:modified xsi:type="dcterms:W3CDTF">2024-08-29T15:44:17Z</dcterms:modified>
  <cp:revision>56</cp:revision>
  <dc:subject/>
  <dc:title>ВРСТЕ ВЕЖБИ</dc:title>
</cp:coreProperties>
</file>